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88D5-E086-4C2E-8E48-9656866C8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8569-EC8B-4007-AE52-A74D6A99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C310-CE34-42BE-A7D8-8F33F5D13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AEE6-EF7A-44E4-8278-86DF67637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A6CB-31EC-41BC-8CD2-0757E181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FB3E-5CB0-4B7A-B9F8-B95BC608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273E-499A-4DD7-A52A-090A1B51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3C96-8655-475D-99F1-CBA48F98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C344-DBA4-4F3B-B404-302A948A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DE49-25DA-421E-8DA4-358DD5FF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3869-502D-46E7-909B-4FFC6EE0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E779-3187-4DFF-9839-A0F64857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C092-6F0F-400B-8246-3096D461A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89000"/>
            <a:ext cx="6337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Monotype Corsiva"/>
              </a:rPr>
              <a:t>La globalizz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50920" y="1844640"/>
            <a:ext cx="410364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16360" y="2781360"/>
            <a:ext cx="2808000" cy="718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GLOBALIZZ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 rot="877800">
            <a:off x="249120" y="1698120"/>
            <a:ext cx="2540160" cy="1355760"/>
          </a:xfrm>
          <a:prstGeom prst="rightArrow">
            <a:avLst>
              <a:gd name="adj1" fmla="val 50000"/>
              <a:gd name="adj2" fmla="val 4684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miglioramento mezzi 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comunicazi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20564400">
            <a:off x="0" y="3428640"/>
            <a:ext cx="2843280" cy="1224000"/>
          </a:xfrm>
          <a:prstGeom prst="rightArrow">
            <a:avLst>
              <a:gd name="adj1" fmla="val 50000"/>
              <a:gd name="adj2" fmla="val 58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Miglioramento mezzi 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traspo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5600" y="34956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932360" y="3573360"/>
            <a:ext cx="1440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24360" y="3573360"/>
            <a:ext cx="180000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932360" y="1125000"/>
            <a:ext cx="14436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5364000" y="1484280"/>
            <a:ext cx="17290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12000" y="5157720"/>
            <a:ext cx="1512720" cy="719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Rid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dista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6443640" y="3645000"/>
            <a:ext cx="1728720" cy="792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tili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Vita pi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im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6947640" y="404640"/>
            <a:ext cx="1584360" cy="9367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Lib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Circolazione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pers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27640" y="260280"/>
            <a:ext cx="1657080" cy="7923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Lib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Circol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Di mer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7667280" y="1413000"/>
            <a:ext cx="144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32720" y="2421000"/>
            <a:ext cx="1942920" cy="1079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Immigrazione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Città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multietn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7T09:38:31Z</dcterms:created>
  <dc:creator>studente</dc:creator>
  <dc:description/>
  <dc:language>en-US</dc:language>
  <cp:lastModifiedBy>studente</cp:lastModifiedBy>
  <dcterms:modified xsi:type="dcterms:W3CDTF">2017-01-09T10:06:23Z</dcterms:modified>
  <cp:revision>9</cp:revision>
  <dc:subject/>
  <dc:title>Diapositiva 1</dc:title>
</cp:coreProperties>
</file>